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931-5A9F-43DB-A717-338EC1C0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6A9-8D0B-4B8F-8BDD-747463EF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475-4626-4679-991A-4092C193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A72-258E-4784-87E6-71E22722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150-0614-4404-920A-55AA80D2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1AF-41E3-4F41-A28B-9D3C18C2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FB2-F7ED-4891-892E-54B97991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A27-A751-49FB-9152-74258B51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00D-EA0E-401F-84A3-D2B59447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B85-44E6-44D8-B608-DFAB1212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5FD-471D-4EE0-821A-23774B48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D46-A1F4-4480-BD38-F6831D7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89E2-7716-42DA-9007-82291A54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after Commun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calls us together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makes us one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has forgiven our 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gives hope and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se Word is proclai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is revealed as lover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alone has call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refore we offer all that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l we shall be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, O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ur sacrifice of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ccept our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that we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hands were emp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you fill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8:10Z</dcterms:created>
  <dc:creator>Anon Anon</dc:creator>
  <dc:description/>
  <dc:language>en-US</dc:language>
  <cp:lastModifiedBy>Anon Anon</cp:lastModifiedBy>
  <dcterms:modified xsi:type="dcterms:W3CDTF">2005-08-09T05:07:23Z</dcterms:modified>
  <cp:revision>12</cp:revision>
  <dc:subject/>
  <dc:title>Prayer after Communion (SLD-2)</dc:title>
</cp:coreProperties>
</file>